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5D9-FAE4-4EED-9DDA-C94EE6E4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16A-5561-45EB-9B57-B1792A6A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18D-621D-476A-AC23-6E176626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331-0A72-4EB8-8A8C-7B4DE0B9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578-20CC-4494-B032-FE4E5AA0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42B-F91E-42B4-8536-9DC50CE6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DAB-88DB-490E-B5A7-3DEB67E3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001-FC0A-4ABC-BB05-4558E322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F5C-1641-4D66-BA6D-303493D2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6BA-4EDA-4A7E-857B-865FB68E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7C6-5942-4A8F-BE57-4EAAADC0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190-BA36-4A06-A2F5-680FE9EB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F36B-0535-4657-B63D-ECF8F8AE31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Smoothing with an even number of poin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t is usually preferable to smooth using an odd number of points, but sometimes even numbers can be used, i.e. a 4-point average or a 6-point averag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we used odd number smoothing, the result was automatically centred, i.e. the y-data had the same t-values as the original. This doesn’t happen for even-point smoothing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refore, we have to take an extra step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4D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14200" y="285840"/>
          <a:ext cx="8643960" cy="6370560"/>
        </p:xfrm>
        <a:graphic>
          <a:graphicData uri="http://schemas.openxmlformats.org/drawingml/2006/table">
            <a:tbl>
              <a:tblPr/>
              <a:tblGrid>
                <a:gridCol w="655920"/>
                <a:gridCol w="728640"/>
                <a:gridCol w="3425760"/>
                <a:gridCol w="383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4-point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4-point centred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 4-point moving average is mainly used for quarterly data and a 12-point moving average is used for monthly dat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4D: 2, 4, 5, 6, 8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05:58:37Z</dcterms:created>
  <dc:creator>08843474</dc:creator>
  <dc:description/>
  <dc:language>en-US</dc:language>
  <cp:lastModifiedBy>08843474</cp:lastModifiedBy>
  <dcterms:modified xsi:type="dcterms:W3CDTF">2011-03-28T23:29:58Z</dcterms:modified>
  <cp:revision>2</cp:revision>
  <dc:subject/>
  <dc:title>Time series</dc:title>
</cp:coreProperties>
</file>